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65D-8EC4-4299-AEAC-A9B02BB7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1FB-D0F3-4DC7-A0C0-10E217F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1A1-35F0-4381-8EAF-954B1C44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581-B0A5-4CC5-92F4-BB70F652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18C-3A72-4A14-B4BB-A8C59EB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096-0EC1-43CD-9217-24FA56E2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5DD-29D7-403D-B2BC-EBADB3F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493-C3B6-4A4F-ABC6-7E6D541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A7A-7C44-4919-B849-757D9AC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ABF-83C6-4E72-A7FC-A897C1E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1C2-1646-4CD0-B1A5-374AF6D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B26-F3A1-4DF3-A69D-4EF4040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35B-FB50-4104-B6DA-6D48484C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8288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ashHand"/>
              </a:rPr>
              <a:t>Imparare a</a:t>
            </a:r>
            <a:r>
              <a:rPr b="0" lang="en-US" sz="5400" spc="-1" strike="noStrike">
                <a:solidFill>
                  <a:srgbClr val="000000"/>
                </a:solidFill>
                <a:latin typeface="TrashHand"/>
              </a:rPr>
              <a:t>/</a:t>
            </a:r>
            <a:r>
              <a:rPr b="0" lang="en-US" sz="7200" spc="-1" strike="noStrike">
                <a:solidFill>
                  <a:srgbClr val="000000"/>
                </a:solidFill>
                <a:latin typeface="TrashHand"/>
              </a:rPr>
              <a:t>e gioc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124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shHand"/>
              </a:rPr>
              <a:t>Proposta di strumenti per l’avvicinamento di un caso autistico a “Strega tocca co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591160"/>
            <a:ext cx="6477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MELIA POND"/>
              </a:rPr>
              <a:t>Mariasole Bondio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MELIA POND"/>
              </a:rPr>
              <a:t>Magistrale informatica uman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584440" cy="291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7780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Lavoro a tavolino:obiettiv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re con i colori e la loro espressione in CAA attraverso attività più o meno lu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re con le regole del gioco prima della loro appl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mpratichirsi con il gioco fino a magari arrivare a simulare una versione ‘a tavolino’ del gi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ashHand"/>
              </a:rPr>
              <a:t>Gioco con gli altri bambi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ilitare l’inclusione con tutti i mezzi poss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itare il più possi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ortamenti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ilitare la comunic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 lo svolgimento del gioc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62520" y="2448000"/>
            <a:ext cx="5181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shHand"/>
              </a:rPr>
              <a:t>3-  Riprendere tutti gli strumenti che possono essere considerati utili per intraprendere il percorso progettat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Strumenti necessari per gli obiettivi individu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a familizarizzazione/il gioco coi colori-rinfo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(boardmaker, oggetti materi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- L’apprendimento delle regole (la città educante, CAA, ogget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a comunicazione nel gioco vero e prop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(CAA, oggetti materi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In sostanz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possibili oggetti materiali: es. cappello da s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vari software (principalmente boardm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Video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Programmi per dise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shHa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ue tavole diver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 l’apprendimento delle regole (rig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 la comunicazione durante il gioco (mob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29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Tavola per l’apprendimento delle reg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ta a tavo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essi simboli che nei giochi su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trebbe essere in alcuni casi, in alcune parti utilizzata per consegna esercizi/giochi con l’educ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Tavola per il gio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ve contenere la frase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trega tocca col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ssa più tutti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ve contenere rappresentate tutte le altre necessità del bambino (pausa, aiuto, non ho capito, devo andare in bagno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rashHand"/>
              </a:rPr>
              <a:t>Come scrivere una c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enere di partenza frasi semp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celta di tradurre o meno tutte le parole in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cessità di schematizzare le regole prima di partire con il reale processo di simbo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lessibilità a seconda dei c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Oggetti mater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aranno utili in varie f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l 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l tavolino con possibili giochi sugli      oggetti e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. Mettere una serie di oggetti rossi in una cesta con l’etichetta CAA rosso   (imma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l corso del gioco: es. cappello che indossa la strega, magari indossato anche dall’educ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738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rashHand"/>
              </a:rPr>
              <a:t>Boardmak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segni (per  dei rinforzi, passatempi, ma comunque collegati dai col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ssociazioni (colore-colore/oggetto-col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caffale del color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quenze da riordinare (questo anche nella città educa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Il progetto in br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Strega tocca color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è un gioco che quasi tutti conosciamo. Ma come si può imparare a giocare se si è un bambino autistico? Cos’è il mondo, con i suoi colori, visto da un soggetto portatore di autismo? E soprattutto, quali strumenti si possono pensare per facilitare alcune possibili risposte a queste doman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Future propos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Software per dise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Videomodelling con riprese mirate a far comprendere al bambino le diverse fasi del gioco, con le spiegazioni con la sua C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936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Grazi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Non educatrice, non insegnante di sostegno né logopedista..allora c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alcuno che può forn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tali figure professionali la s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oscenza ed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cnica per ciò che rigu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li STRUM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’ da qui che nasce l’idea di progettare un K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IL GIO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oco di gruppo: più si è meglio 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iù consono all’aper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l modello di ‘acchiappino’, ‘flash’..ec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sati sul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biettivo: non farsi prendere e ritrovarsi a fare la ‘streg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culiarità: interazione con l’ambiente esterno, ciò che circonda i giocatori è determinante per l’esito dei giocatori. I colori sono centr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Un buon punto di partenza per un progetto con un soggetto aut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oco molto adatto all’inclusione sia a scuola sia nel tempo lib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e apprendimento del funzionamento del gioco attraverso diverse f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e percorso più ampio sui co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ità, dunque, di utilizzare alcuni degli ausili appresi nel corso delle lezioni per facilitare e aggiungere qualcosa all’apprendimento del gi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alla ricerca di strumenti..Ripartire da 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sare a chi deve imparare a giocare, per chi si stanno progettando 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pensare così a un gioco che si è sempre conosciuto, provare a vederlo in una nuova prosp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andire bene le fasi dell’apprendimento con cui ci si dovrà confrontare per l’ideazione degli str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zionare tutti gli str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 possono essere consider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tili per intraprendere i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. Creare un ipotetico kit del gi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724200"/>
            <a:ext cx="2905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1-   pensare a chi deve imparare a giocare, per chi si stanno progettando le attiv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fferente percezione sensoriale: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stidio e/o intolleranza a rumori forti, urla, ambienti rumorosi come la classe e la men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a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stidio e/o intolleranza al tatto: vestiti sulla pelle, essere tocca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ale vis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litamente più svilup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endimento sostenuto da immag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shHand"/>
              </a:rPr>
              <a:t>2-   ripensare a un gioco che si è sempre conosciuto, provare a vederlo in una nuova prospetti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dei ruoli prec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delle reg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'è un mondo es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 cui è indispensa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eragire attraverso il t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22880" y="2057400"/>
            <a:ext cx="30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shHand"/>
              </a:rPr>
              <a:t>3- Scandire bene le fasi dell’apprendimento e del gioco con cui ci si dovrà confrontare per l’ideazione degli stru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1   Lavoro del bambino sul gioco e sui     colori (con l’educatrice, l’insegnante di sostegno, i geni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2   Gioco con gli altr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b. Sicuramente la gestione di queste due macrofasi varierà da caso a caso, per questo il progetto proposto è stato pensato con delle linee guida che necessitano di essere adeguate alle necessità reali di ogn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0:08:50Z</dcterms:created>
  <dc:creator>Soool</dc:creator>
  <dc:description/>
  <dc:language>en-US</dc:language>
  <cp:lastModifiedBy>HP</cp:lastModifiedBy>
  <dcterms:modified xsi:type="dcterms:W3CDTF">2015-12-14T14:43:5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